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3C2-8FDB-4AC5-B80D-A9AA2FD9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55D-5415-4E19-8C6C-3E36208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921-0A96-4976-B9D9-91728D38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AFE-E9AC-4D96-9150-DC83B927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656-A45B-4A8E-9795-F3FB320B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E724-831B-4F42-A584-8FD6D584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5C6C-DFF6-4AF8-B044-B081C185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64A-0BA1-479F-915A-4E3DF781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F66D-6BF0-4DC1-81E2-EEBAA580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A576-6263-4C19-8083-41E6BCD0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1CE-7849-49F1-8117-75BE1F6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BD7-E967-45B8-8115-93D1245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765B-7756-4CFB-92EB-1EBFEBA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011F-F00D-4A8C-8BCE-9BF61782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EFFC-899B-4AF6-BEEB-B6977E3C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9611-2E0D-497B-9162-9694322F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18D6-825B-4960-9F75-FD4D5B41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74B-4F57-4FAA-AE88-F64194A6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8E7-3688-4C21-AE8B-A8B4D312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204-5D60-4FC8-A991-6779078D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D95-135B-40D5-BB80-D62A6FA1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CFA-24CC-4A75-8C18-5620B65E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2CF-A7D2-4C50-88C4-05EF187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0F7-8AD3-459E-AFC7-3C79C0D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87D-A142-4FD7-A0AA-604D8FEE974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3842-A59C-4F5D-9BD3-384E336D4C6F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Life is Good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hapter 3:  American Free Enterpris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You paying on your own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odness NO!!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we all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 we all pay tax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would happen if you could CHOOSE whether or not you wanted to pay taxe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i, welcome to Wal-Mar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does Sam’s Club rock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specially on weeken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280" y="28584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me, home on the rang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eah, you are all free rid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willingly looking to p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till get the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ould anyone choose to pa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happens instea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ver get pushed down stair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it fair for someone else’s choices to impact you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uss with a neighb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me up with 3 exampl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t least one positive &amp; one negativ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ternaliliti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ir choice…your cost or benef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SU footba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reath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rst 3 sections should be don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ife is good…but for all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e we all “equals”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egally, yes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conomically, no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know who the rich people a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does it mean to be poor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poor is poor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having an Xbox 360 doesn’t make you poo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not meet basic need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v’t there to help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ash transfers vs in-kind benefi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’s the differenc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ok deeper at our count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have it goo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ystem set up to benefit marke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ov’t still need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t 1 Test on Wednesday!!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tudy guides will be collect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system is gre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ased on hard wor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ertainly not all equal, but should all have minimum necessar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it 1 Test next clas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st of today to Create-A-Natio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all mine, mine, mine!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system is a big MARKE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o controls the marke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is our only job in this econom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hat does the gov’t 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e run the economy…what’s lef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ut how do we tell them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ur economy, we run 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y set foundation &amp; help us when we are dow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do we make our demands kn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WE VO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WE BU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ow do we measure success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pends on who you as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between “I” &amp; us al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 “I” matter to the gov’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g picture using GDP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goals do they pursu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push for technolog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reather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’m coming around to check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ke sure sections 1 &amp; 2 are complet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arm Up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mpare the role of the gov’t with that of the people in our economy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does the gov’t measure the success of our economy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But what exactly do they do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ver had more gov’t than 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y are they ther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do they really offer us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3527640" cy="3702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30280" y="1882800"/>
            <a:ext cx="6813720" cy="470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33520" y="100080"/>
            <a:ext cx="8001000" cy="6721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61080" y="678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2:18:18Z</dcterms:created>
  <dc:creator>Lewisburg Area School District</dc:creator>
  <dc:description/>
  <dc:language>en-US</dc:language>
  <cp:lastModifiedBy>Lewisburg Area School District</cp:lastModifiedBy>
  <dcterms:modified xsi:type="dcterms:W3CDTF">2010-02-09T14:15:08Z</dcterms:modified>
  <cp:revision>7</cp:revision>
  <dc:subject/>
  <dc:title>Life is Good</dc:title>
</cp:coreProperties>
</file>